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3094-B3A3-45DC-B3BC-122D8134D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89BA-4FAB-4672-A898-7D82828D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BF81-8A06-4005-BFD1-132899E11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B17C-6790-4FCB-BEFA-98819EBDC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F3A0-1978-41D9-88C2-DABC1705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8B0D-C8E9-489B-B1C2-4F95A906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0674-6C54-4AA3-B017-A94A9DE8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F168-1E4D-49F3-A7F1-A8647473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6BAA-65BE-48B6-8884-4C4B0205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5338-BC20-4F63-A023-5318AEC6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5DAE-49B3-4322-878A-9F10FB29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FDF0-46E2-4D27-B9F9-EDBE8DDB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BAA1-333A-4556-8FE8-438D5EA5C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e grace of the Lord Jesus Chr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the love of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the communion of the Holy Spi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e with you all.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also with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0:04:49Z</dcterms:created>
  <dc:creator>Anon Anon</dc:creator>
  <dc:description/>
  <dc:language>en-US</dc:language>
  <cp:lastModifiedBy>Anon Anon</cp:lastModifiedBy>
  <dcterms:modified xsi:type="dcterms:W3CDTF">2005-08-09T05:21:46Z</dcterms:modified>
  <cp:revision>8</cp:revision>
  <dc:subject/>
  <dc:title>PowerPoint Presentation</dc:title>
</cp:coreProperties>
</file>